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B186-3955-4D02-9276-9D1F160F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50AD-E47D-42DC-8D71-8675420D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11CC-AAA2-4A13-A447-F10442214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EF83-4ED3-44C1-8D29-4B42A5502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0D8C-D3B2-441B-AD16-255E4506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6389-0DFC-40F8-993C-72FB017E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42BA-99A6-4B13-8768-E0358DB5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37FD-FA3A-4E6B-AEC5-5DD002DA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5576-C427-48DC-83C9-D31DD37C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F744-2227-4600-8000-6773F579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752A-C332-47FA-8601-9D62E8BB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488A-BA45-496F-9C04-DAA7AEC7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86D4-EC94-4708-969E-18BC14AC9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Saladin_and_Guy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pn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Byzantium_after_the_First_crusade.PNG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Crusader_States_1190.svg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pload.wikimedia.org/wikipedia/commons/0/0f/The_Crusader_States_%25281200%2529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Old English Text MT"/>
              </a:rPr>
              <a:t>The Crusad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3565440" cy="4419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365800" y="1066680"/>
            <a:ext cx="3778200" cy="4114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200400" y="3352680"/>
            <a:ext cx="3086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ld English Text MT"/>
              </a:rPr>
              <a:t>The Last 6 Crusa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6483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ed 60 yea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t all lands back to the Musl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the strongest divide between Catholics and Orthodox Christ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he fall of Antioch (1268), Tripoli (1289), and Acre (1291), those Christians unable to leave the cities were massacred or enslaved and the last traces of Christian ru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19720" y="762120"/>
            <a:ext cx="472428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6" name=""/>
          <p:cNvSpPr/>
          <p:nvPr/>
        </p:nvSpPr>
        <p:spPr>
          <a:xfrm flipH="1">
            <a:off x="6857640" y="175248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91520" y="480060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34320" y="1447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62920" y="44956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43800" y="4572000"/>
            <a:ext cx="76212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15200" y="4267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5880" y="4952880"/>
            <a:ext cx="129564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4572000"/>
            <a:ext cx="15264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86400" y="434340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Rans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84960" y="4227480"/>
            <a:ext cx="70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971800" y="3657600"/>
            <a:ext cx="53352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4038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53280" y="403848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4872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5410080"/>
            <a:ext cx="1905120" cy="1447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276720" y="0"/>
            <a:ext cx="2361960" cy="3124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334120" y="0"/>
            <a:ext cx="3809880" cy="28670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00"/>
                </a:solidFill>
                <a:uFillTx/>
                <a:latin typeface="Old English Text MT"/>
              </a:rPr>
              <a:t>Wh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5162400" y="4206960"/>
            <a:ext cx="3981600" cy="2651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1905120" y="4343400"/>
            <a:ext cx="3276360" cy="2514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3429000" cy="3000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0" y="2971800"/>
            <a:ext cx="2743200" cy="2438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7074000" y="2133720"/>
            <a:ext cx="207000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ld English Text MT"/>
              </a:rPr>
              <a:t>W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ld English Text MT"/>
              </a:rPr>
              <a:t>Wh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4419360"/>
            <a:ext cx="83822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usade 1,2,3 Main crusades. Actually a total of 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ight between Muslims and Christi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52480" y="838080"/>
            <a:ext cx="5943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19720" y="3629160"/>
            <a:ext cx="4724280" cy="3228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ld English Text MT"/>
              </a:rPr>
              <a:t>Crusade 1 1095-109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zantine emperor Alexius 1 asked for help against the invading Muslim Tu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e Urban the 2 called upon all Christians to 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frey of Bouillon (1060–1100), Baldwin of Flanders, Raymond of Toulouse, Robert of Normandy, Bohemond of Taranto, marched south through Anatol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French and No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ived in Jerusalem in Ju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killed and destroyed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4105440"/>
            <a:ext cx="5029200" cy="2752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105520" y="4191120"/>
            <a:ext cx="4038480" cy="2666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ld English Text MT"/>
              </a:rPr>
              <a:t>Crusade 11(1147-1149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lims took back Edes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shop in France Bernard of Clairvaux &amp; Pope Eugene 3 pushed for the second crusade to rid the heathens/infidels from the holy l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and German armies band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not be successful in the Holy Land, but was successful in Portugal and Spain. Reconquis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720" y="0"/>
            <a:ext cx="14112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9360" bIns="9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720" y="0"/>
            <a:ext cx="14112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9360" bIns="9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720" y="0"/>
            <a:ext cx="14112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9360" bIns="9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720" y="0"/>
            <a:ext cx="14112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9360" bIns="9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ld English Text MT"/>
              </a:rPr>
              <a:t>Jerusalem F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8381880" cy="44197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ians lost foothold in Holy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adin ruler of Egypt took Jerusalem in 118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ld English Text MT"/>
              </a:rPr>
              <a:t>Crusade 111 1189-119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Old English Text MT"/>
              </a:rPr>
              <a:t>(The Kings Crusad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5410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an attempt to get back land from Salad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successful, but unable to reconquer Jerusa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, Germany-Holy Roman Emperor Frederick Barbarossa (he drowns), England banded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treaty with Saladin that allowed pilgrims and merch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ard ransomed 150,00 marks in 1194 died 11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7480" y="1219320"/>
            <a:ext cx="3746520" cy="4343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648320" y="5334120"/>
            <a:ext cx="44956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85345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00400" y="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0"/>
            <a:ext cx="3505320" cy="36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hird Crusade 1189-11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File:The Crusader States (1200)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0"/>
            <a:ext cx="7619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4:01:05Z</dcterms:created>
  <dc:creator>jobert</dc:creator>
  <dc:description/>
  <dc:language>en-US</dc:language>
  <cp:lastModifiedBy>jobert</cp:lastModifiedBy>
  <dcterms:modified xsi:type="dcterms:W3CDTF">2012-04-19T16:58:28Z</dcterms:modified>
  <cp:revision>12</cp:revision>
  <dc:subject/>
  <dc:title>The Crusades</dc:title>
</cp:coreProperties>
</file>